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46B1-B23B-4749-8238-5C7B3774C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F793-00BD-45AF-B62A-0BC44B8F9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B6BE-45DB-4D85-84D8-B806FADC3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A66E-005A-4ECF-A178-2783F59C5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3C4F-94F4-4A4D-802B-662E495FE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495F-5388-41E1-B4F3-24327B209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00F2-40B5-4B00-B224-7D556076D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3AFE-C7E6-490C-91DE-1E329A3BB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71AD-A98D-41A1-B34C-F36E21BD5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CAE6-E0D8-44D8-B21A-2E34582E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27B2-C883-437A-AF4D-E006146A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0FEC-3EF6-45FA-9CCA-5E0228E7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6FFD3-46BC-478A-8340-30C77197F4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%20título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in%20título-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in%20título-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in%20título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in%20título-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in%20título-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in%20título-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in%20título-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in%20título-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in%20títul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3T10:03:04Z</dcterms:created>
  <dc:creator>Grupo Editorial</dc:creator>
  <dc:description/>
  <dc:language>en-US</dc:language>
  <cp:lastModifiedBy>Grupo Editorial</cp:lastModifiedBy>
  <dcterms:modified xsi:type="dcterms:W3CDTF">2001-11-13T10:04:59Z</dcterms:modified>
  <cp:revision>1</cp:revision>
  <dc:subject/>
  <dc:title>Sin título de diapositiva</dc:title>
</cp:coreProperties>
</file>